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DC9-4513-4E1C-B17F-D65038D4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4D55-A0B5-4D05-985A-FAA271A0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E3ED-B6C1-4846-9255-1B6782A5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B253-4A4F-4D9B-ADBB-E4D42411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B90F-6766-40C8-B68E-80D1126B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1C7-B197-46EC-893E-B6D4E8E7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798-0731-48E7-96EB-C05E3DF9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713-6662-4157-8BB2-2C6AA564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9A8-D1BD-45B7-A19B-D99F58E6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E77-5EA0-44C1-AA91-15512786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66ED-C8E2-4B32-A8FD-5CBD7388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C258-972E-4D39-ACA4-A164EE3D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BE8B-1220-4C57-969C-845784B9FB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forestation in South America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happening to the rain fore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28195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forestation?  What’s tha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orestation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 huge problem all over the wor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however in the Western Hemisp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outh Americ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largely aff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what is deforest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orestat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s the loss of forests d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 the widespread cutting of tre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315200" y="4952880"/>
            <a:ext cx="16002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different types of deforestation.  We are going to learn about f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ing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largest cause of deforest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think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re is a lot more available farming l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nder the trees and vegetation in the rainfores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an there actually 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!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ople cut down the tre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try to farm on the land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owever many times they are unsuccess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assume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ince trees can grow in the so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lots of lush flowers and vegetation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t must be very fertile so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fortunately, that is not always the cas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0120" y="990720"/>
            <a:ext cx="12286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sh and Burn Fa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type of farming is when peo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ut and develo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clearing in the fo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row crops for a few yea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til the soil is drained of all minera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Lea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do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ame thing in a new area of 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523880" cy="14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00600" y="4952880"/>
            <a:ext cx="160020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0769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z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This is particularl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p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 South Amer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arge are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ropical forests have be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leared to create grazing la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razilian gover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particula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ppor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is because the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ring in so much money from beef expor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specially from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ited Stat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48520" y="152280"/>
            <a:ext cx="2641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6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ewood Collec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struction of trees to be used f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uel most commonly occurs aro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ities and tow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ere there is a commercial market for firewood and charcoal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re is usually not enough firewood in areas far from tre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is makes the demand for firewood gre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when the demand is high the asking price for the product is hig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ople are illegally cutting down the tre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rainforest, and th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lling the firewood for a large profi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2352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77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77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g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usually preformed b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arge corpor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type of deforestation involves loggers wh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o not “clear - cut” a forests tre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is means i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oggers choose which trees to take and which trees to le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!  They only choose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t down the trees that will make them a lot of mone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people assume that this would be better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fortunately this process is ruining about 40% of the trees that are left behin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13:24:44Z</dcterms:created>
  <dc:creator>Cecil County</dc:creator>
  <dc:description/>
  <dc:language>en-US</dc:language>
  <cp:lastModifiedBy>Cecil County</cp:lastModifiedBy>
  <dcterms:modified xsi:type="dcterms:W3CDTF">2007-10-13T10:41:46Z</dcterms:modified>
  <cp:revision>1</cp:revision>
  <dc:subject/>
  <dc:title>Deforestation in South America!</dc:title>
</cp:coreProperties>
</file>